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A337-3F85-408A-8A5C-CA822DF2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4409-BCC8-43F4-94F5-885430E9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0BB-7A90-4FB2-BC10-EB594282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0B99-D603-4826-AC15-EB21920A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E84-B09D-42CF-AF21-797CB7F4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0A1-B066-4D4A-BCA9-A4C7ABC4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3D63-C891-4041-9A3B-A52488A3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F16-CA38-417A-BBDE-0916E992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293-AC7D-4676-B868-507E45E1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2AD-EFFE-4963-AA3A-8CAFD26D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C78-F5D3-44CE-BA8F-6A64DDD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854-1A95-446B-928D-524DE157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D42F-B312-478E-AEEF-9AB4C69D7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wmf"/><Relationship Id="rId17" Type="http://schemas.openxmlformats.org/officeDocument/2006/relationships/image" Target="../media/image4.wmf"/><Relationship Id="rId18" Type="http://schemas.openxmlformats.org/officeDocument/2006/relationships/image" Target="../media/image3.wmf"/><Relationship Id="rId19" Type="http://schemas.openxmlformats.org/officeDocument/2006/relationships/image" Target="../media/image4.wmf"/><Relationship Id="rId20" Type="http://schemas.openxmlformats.org/officeDocument/2006/relationships/image" Target="../media/image3.wmf"/><Relationship Id="rId21" Type="http://schemas.openxmlformats.org/officeDocument/2006/relationships/image" Target="../media/image4.wmf"/><Relationship Id="rId22" Type="http://schemas.openxmlformats.org/officeDocument/2006/relationships/image" Target="../media/image3.wmf"/><Relationship Id="rId23" Type="http://schemas.openxmlformats.org/officeDocument/2006/relationships/image" Target="../media/image4.wmf"/><Relationship Id="rId24" Type="http://schemas.openxmlformats.org/officeDocument/2006/relationships/image" Target="../media/image3.wmf"/><Relationship Id="rId25" Type="http://schemas.openxmlformats.org/officeDocument/2006/relationships/image" Target="../media/image4.wmf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5715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away “e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re left with the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how we conju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do i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h (I) add “e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 (you) “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, sie es, (he, she, it) all add a “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915840" y="1603080"/>
            <a:ext cx="2283840" cy="3938040"/>
            <a:chOff x="915840" y="1603080"/>
            <a:chExt cx="2283840" cy="3938040"/>
          </a:xfrm>
        </p:grpSpPr>
        <p:grpSp>
          <p:nvGrpSpPr>
            <p:cNvPr id="43" name=""/>
            <p:cNvGrpSpPr/>
            <p:nvPr/>
          </p:nvGrpSpPr>
          <p:grpSpPr>
            <a:xfrm>
              <a:off x="1842840" y="2475000"/>
              <a:ext cx="1356840" cy="338400"/>
              <a:chOff x="1842840" y="2475000"/>
              <a:chExt cx="1356840" cy="338400"/>
            </a:xfrm>
          </p:grpSpPr>
          <p:sp>
            <p:nvSpPr>
              <p:cNvPr id="44" name=""/>
              <p:cNvSpPr/>
              <p:nvPr/>
            </p:nvSpPr>
            <p:spPr>
              <a:xfrm>
                <a:off x="1842840" y="2475000"/>
                <a:ext cx="1356840" cy="33840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2584800" y="2221560"/>
              <a:ext cx="614880" cy="620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915840" y="1603080"/>
              <a:ext cx="1844280" cy="3938040"/>
              <a:chOff x="915840" y="1603080"/>
              <a:chExt cx="1844280" cy="3938040"/>
            </a:xfrm>
          </p:grpSpPr>
          <p:sp>
            <p:nvSpPr>
              <p:cNvPr id="47" name=""/>
              <p:cNvSpPr/>
              <p:nvPr/>
            </p:nvSpPr>
            <p:spPr>
              <a:xfrm>
                <a:off x="1551240" y="1603080"/>
                <a:ext cx="662760" cy="91044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417680" y="2552400"/>
                <a:ext cx="531000" cy="15577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44640" y="2616840"/>
                <a:ext cx="604800" cy="139248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536840" y="3980880"/>
                <a:ext cx="402840" cy="15084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15840" y="3877560"/>
                <a:ext cx="592920" cy="166356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496600" y="2562840"/>
                <a:ext cx="263520" cy="2790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84440" y="2842200"/>
                <a:ext cx="175680" cy="12420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73640" y="2827080"/>
                <a:ext cx="186480" cy="16236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576880" y="2824200"/>
                <a:ext cx="168480" cy="16524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30720" y="2827080"/>
                <a:ext cx="87480" cy="2268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28144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3386520"/>
            <a:ext cx="381240" cy="609120"/>
            <a:chOff x="380880" y="3386520"/>
            <a:chExt cx="381240" cy="609120"/>
          </a:xfrm>
        </p:grpSpPr>
        <p:grpSp>
          <p:nvGrpSpPr>
            <p:cNvPr id="60" name=""/>
            <p:cNvGrpSpPr/>
            <p:nvPr/>
          </p:nvGrpSpPr>
          <p:grpSpPr>
            <a:xfrm>
              <a:off x="535680" y="3521520"/>
              <a:ext cx="226440" cy="52200"/>
              <a:chOff x="535680" y="3521520"/>
              <a:chExt cx="226440" cy="52200"/>
            </a:xfrm>
          </p:grpSpPr>
          <p:sp>
            <p:nvSpPr>
              <p:cNvPr id="61" name=""/>
              <p:cNvSpPr/>
              <p:nvPr/>
            </p:nvSpPr>
            <p:spPr>
              <a:xfrm>
                <a:off x="535680" y="3521520"/>
                <a:ext cx="226440" cy="5220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59520" y="3482280"/>
              <a:ext cx="102600" cy="9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0880" y="3386520"/>
              <a:ext cx="307800" cy="609120"/>
              <a:chOff x="380880" y="3386520"/>
              <a:chExt cx="307800" cy="609120"/>
            </a:xfrm>
          </p:grpSpPr>
          <p:sp>
            <p:nvSpPr>
              <p:cNvPr id="64" name=""/>
              <p:cNvSpPr/>
              <p:nvPr/>
            </p:nvSpPr>
            <p:spPr>
              <a:xfrm>
                <a:off x="486720" y="3386520"/>
                <a:ext cx="110520" cy="14076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64400" y="3533400"/>
                <a:ext cx="88560" cy="24084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85560" y="3543120"/>
                <a:ext cx="100800" cy="21528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84560" y="3754440"/>
                <a:ext cx="66960" cy="23328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80880" y="3738240"/>
                <a:ext cx="99000" cy="25740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44760" y="3534840"/>
                <a:ext cx="43920" cy="43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59520" y="3578040"/>
                <a:ext cx="29160" cy="19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57720" y="357588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8080" y="35751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33600" y="357588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95680" y="3289320"/>
            <a:ext cx="484200" cy="66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228600"/>
            <a:ext cx="5715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away “e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’re left with the 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how we conjug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’s do it ag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(I) add “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 (you) add “s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, sie es, (he, she, it) all add a “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321300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438280" y="3365640"/>
            <a:ext cx="758880" cy="652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162920" y="3213000"/>
            <a:ext cx="838080" cy="78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5715000" y="3213000"/>
            <a:ext cx="822240" cy="8604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380880" y="5126400"/>
            <a:ext cx="381240" cy="609120"/>
            <a:chOff x="380880" y="5126400"/>
            <a:chExt cx="381240" cy="609120"/>
          </a:xfrm>
        </p:grpSpPr>
        <p:grpSp>
          <p:nvGrpSpPr>
            <p:cNvPr id="81" name=""/>
            <p:cNvGrpSpPr/>
            <p:nvPr/>
          </p:nvGrpSpPr>
          <p:grpSpPr>
            <a:xfrm>
              <a:off x="535680" y="5261400"/>
              <a:ext cx="226440" cy="52200"/>
              <a:chOff x="535680" y="5261400"/>
              <a:chExt cx="226440" cy="52200"/>
            </a:xfrm>
          </p:grpSpPr>
          <p:sp>
            <p:nvSpPr>
              <p:cNvPr id="82" name=""/>
              <p:cNvSpPr/>
              <p:nvPr/>
            </p:nvSpPr>
            <p:spPr>
              <a:xfrm>
                <a:off x="535680" y="5261400"/>
                <a:ext cx="226440" cy="5220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59520" y="5222160"/>
              <a:ext cx="102600" cy="957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380880" y="5126400"/>
              <a:ext cx="307800" cy="609120"/>
              <a:chOff x="380880" y="5126400"/>
              <a:chExt cx="307800" cy="609120"/>
            </a:xfrm>
          </p:grpSpPr>
          <p:sp>
            <p:nvSpPr>
              <p:cNvPr id="85" name=""/>
              <p:cNvSpPr/>
              <p:nvPr/>
            </p:nvSpPr>
            <p:spPr>
              <a:xfrm>
                <a:off x="486720" y="5126400"/>
                <a:ext cx="110520" cy="14076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64400" y="5273280"/>
                <a:ext cx="88560" cy="24084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85560" y="5283000"/>
                <a:ext cx="100800" cy="21528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84560" y="5494320"/>
                <a:ext cx="66960" cy="23328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80880" y="5478120"/>
                <a:ext cx="99000" cy="25740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4760" y="5274720"/>
                <a:ext cx="43920" cy="43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59520" y="5317920"/>
                <a:ext cx="29160" cy="1908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7720" y="5315760"/>
                <a:ext cx="30960" cy="248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58080" y="5315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33600" y="5315760"/>
                <a:ext cx="14400" cy="324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4495680" y="5029200"/>
            <a:ext cx="484200" cy="665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2438280" y="5105520"/>
            <a:ext cx="758880" cy="652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7162920" y="4952880"/>
            <a:ext cx="838080" cy="7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1066680" y="4876920"/>
            <a:ext cx="952560" cy="1206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5715000" y="4800600"/>
            <a:ext cx="996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04920" y="3124080"/>
            <a:ext cx="228600" cy="347760"/>
            <a:chOff x="304920" y="3124080"/>
            <a:chExt cx="228600" cy="347760"/>
          </a:xfrm>
        </p:grpSpPr>
        <p:grpSp>
          <p:nvGrpSpPr>
            <p:cNvPr id="101" name=""/>
            <p:cNvGrpSpPr/>
            <p:nvPr/>
          </p:nvGrpSpPr>
          <p:grpSpPr>
            <a:xfrm>
              <a:off x="397800" y="3201120"/>
              <a:ext cx="135720" cy="29880"/>
              <a:chOff x="397800" y="3201120"/>
              <a:chExt cx="135720" cy="29880"/>
            </a:xfrm>
          </p:grpSpPr>
          <p:sp>
            <p:nvSpPr>
              <p:cNvPr id="102" name=""/>
              <p:cNvSpPr/>
              <p:nvPr/>
            </p:nvSpPr>
            <p:spPr>
              <a:xfrm>
                <a:off x="397800" y="3201120"/>
                <a:ext cx="135720" cy="298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471960" y="31788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920" y="3124080"/>
              <a:ext cx="184680" cy="347760"/>
              <a:chOff x="304920" y="3124080"/>
              <a:chExt cx="184680" cy="347760"/>
            </a:xfrm>
          </p:grpSpPr>
          <p:sp>
            <p:nvSpPr>
              <p:cNvPr id="105" name=""/>
              <p:cNvSpPr/>
              <p:nvPr/>
            </p:nvSpPr>
            <p:spPr>
              <a:xfrm>
                <a:off x="368640" y="31240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4960" y="320796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07800" y="32133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7200" y="33339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04920" y="332496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3320" y="32086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71960" y="323352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0880" y="32320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1240" y="32317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56840" y="32320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290520" cy="398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528480" cy="3715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58960" y="2525760"/>
            <a:ext cx="360360" cy="369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62120" y="3048120"/>
            <a:ext cx="609480" cy="423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914400" y="3657600"/>
            <a:ext cx="322200" cy="530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914400" y="4419720"/>
            <a:ext cx="355680" cy="41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914400" y="4952880"/>
            <a:ext cx="374760" cy="446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838080" y="5486400"/>
            <a:ext cx="61452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8380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838080" y="1295280"/>
            <a:ext cx="524160" cy="45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914400" y="685800"/>
            <a:ext cx="449280" cy="4586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318960" y="1963800"/>
            <a:ext cx="290520" cy="398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304920" y="4952880"/>
            <a:ext cx="290520" cy="398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28600" y="6172200"/>
            <a:ext cx="290520" cy="3985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380880" y="719280"/>
            <a:ext cx="228600" cy="347400"/>
            <a:chOff x="380880" y="719280"/>
            <a:chExt cx="228600" cy="347400"/>
          </a:xfrm>
        </p:grpSpPr>
        <p:grpSp>
          <p:nvGrpSpPr>
            <p:cNvPr id="130" name=""/>
            <p:cNvGrpSpPr/>
            <p:nvPr/>
          </p:nvGrpSpPr>
          <p:grpSpPr>
            <a:xfrm>
              <a:off x="473760" y="796320"/>
              <a:ext cx="135720" cy="29520"/>
              <a:chOff x="473760" y="796320"/>
              <a:chExt cx="135720" cy="295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3760" y="796320"/>
                <a:ext cx="135720" cy="2952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47920" y="7740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80880" y="719280"/>
              <a:ext cx="184680" cy="347400"/>
              <a:chOff x="380880" y="719280"/>
              <a:chExt cx="184680" cy="347400"/>
            </a:xfrm>
          </p:grpSpPr>
          <p:sp>
            <p:nvSpPr>
              <p:cNvPr id="134" name=""/>
              <p:cNvSpPr/>
              <p:nvPr/>
            </p:nvSpPr>
            <p:spPr>
              <a:xfrm>
                <a:off x="444600" y="7192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0920" y="80280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83760" y="8085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3160" y="9291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91980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39280" y="803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47920" y="82836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46840" y="8272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7200" y="8269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2800" y="8272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304920" y="5562720"/>
            <a:ext cx="228600" cy="347400"/>
            <a:chOff x="304920" y="5562720"/>
            <a:chExt cx="228600" cy="347400"/>
          </a:xfrm>
        </p:grpSpPr>
        <p:grpSp>
          <p:nvGrpSpPr>
            <p:cNvPr id="145" name=""/>
            <p:cNvGrpSpPr/>
            <p:nvPr/>
          </p:nvGrpSpPr>
          <p:grpSpPr>
            <a:xfrm>
              <a:off x="397800" y="5639760"/>
              <a:ext cx="135720" cy="29520"/>
              <a:chOff x="397800" y="5639760"/>
              <a:chExt cx="135720" cy="29520"/>
            </a:xfrm>
          </p:grpSpPr>
          <p:sp>
            <p:nvSpPr>
              <p:cNvPr id="146" name=""/>
              <p:cNvSpPr/>
              <p:nvPr/>
            </p:nvSpPr>
            <p:spPr>
              <a:xfrm>
                <a:off x="397800" y="5639760"/>
                <a:ext cx="135720" cy="2952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71960" y="561744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04920" y="5562720"/>
              <a:ext cx="184680" cy="347400"/>
              <a:chOff x="304920" y="5562720"/>
              <a:chExt cx="184680" cy="347400"/>
            </a:xfrm>
          </p:grpSpPr>
          <p:sp>
            <p:nvSpPr>
              <p:cNvPr id="149" name=""/>
              <p:cNvSpPr/>
              <p:nvPr/>
            </p:nvSpPr>
            <p:spPr>
              <a:xfrm>
                <a:off x="368640" y="556272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54960" y="564624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7800" y="565200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7200" y="577260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4920" y="576324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3320" y="564732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1960" y="567180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0880" y="567072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1240" y="567036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6840" y="567072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304920" y="1295280"/>
            <a:ext cx="228600" cy="347760"/>
            <a:chOff x="304920" y="1295280"/>
            <a:chExt cx="228600" cy="347760"/>
          </a:xfrm>
        </p:grpSpPr>
        <p:grpSp>
          <p:nvGrpSpPr>
            <p:cNvPr id="160" name=""/>
            <p:cNvGrpSpPr/>
            <p:nvPr/>
          </p:nvGrpSpPr>
          <p:grpSpPr>
            <a:xfrm>
              <a:off x="397800" y="1372320"/>
              <a:ext cx="135720" cy="29880"/>
              <a:chOff x="397800" y="1372320"/>
              <a:chExt cx="135720" cy="29880"/>
            </a:xfrm>
          </p:grpSpPr>
          <p:sp>
            <p:nvSpPr>
              <p:cNvPr id="161" name=""/>
              <p:cNvSpPr/>
              <p:nvPr/>
            </p:nvSpPr>
            <p:spPr>
              <a:xfrm>
                <a:off x="397800" y="1372320"/>
                <a:ext cx="135720" cy="298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71960" y="13500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920" y="1295280"/>
              <a:ext cx="184680" cy="347760"/>
              <a:chOff x="304920" y="1295280"/>
              <a:chExt cx="184680" cy="347760"/>
            </a:xfrm>
          </p:grpSpPr>
          <p:sp>
            <p:nvSpPr>
              <p:cNvPr id="164" name=""/>
              <p:cNvSpPr/>
              <p:nvPr/>
            </p:nvSpPr>
            <p:spPr>
              <a:xfrm>
                <a:off x="368640" y="12952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54960" y="137916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" y="13845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7200" y="15051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920" y="149616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63320" y="1379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1960" y="140472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70880" y="14032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71240" y="14029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6840" y="14032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04920" y="4495680"/>
            <a:ext cx="228600" cy="347760"/>
            <a:chOff x="304920" y="4495680"/>
            <a:chExt cx="228600" cy="347760"/>
          </a:xfrm>
        </p:grpSpPr>
        <p:grpSp>
          <p:nvGrpSpPr>
            <p:cNvPr id="175" name=""/>
            <p:cNvGrpSpPr/>
            <p:nvPr/>
          </p:nvGrpSpPr>
          <p:grpSpPr>
            <a:xfrm>
              <a:off x="397800" y="4572720"/>
              <a:ext cx="135720" cy="29880"/>
              <a:chOff x="397800" y="4572720"/>
              <a:chExt cx="135720" cy="29880"/>
            </a:xfrm>
          </p:grpSpPr>
          <p:sp>
            <p:nvSpPr>
              <p:cNvPr id="176" name=""/>
              <p:cNvSpPr/>
              <p:nvPr/>
            </p:nvSpPr>
            <p:spPr>
              <a:xfrm>
                <a:off x="397800" y="4572720"/>
                <a:ext cx="135720" cy="29880"/>
              </a:xfrm>
              <a:custGeom>
                <a:avLst/>
                <a:gdLst/>
                <a:ahLst/>
                <a:rect l="l" t="t" r="r" b="b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471960" y="4550400"/>
              <a:ext cx="61560" cy="5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304920" y="4495680"/>
              <a:ext cx="184680" cy="347760"/>
              <a:chOff x="304920" y="4495680"/>
              <a:chExt cx="184680" cy="347760"/>
            </a:xfrm>
          </p:grpSpPr>
          <p:sp>
            <p:nvSpPr>
              <p:cNvPr id="179" name=""/>
              <p:cNvSpPr/>
              <p:nvPr/>
            </p:nvSpPr>
            <p:spPr>
              <a:xfrm>
                <a:off x="368640" y="4495680"/>
                <a:ext cx="66240" cy="8028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54960" y="4579560"/>
                <a:ext cx="53280" cy="13752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7800" y="4584960"/>
                <a:ext cx="60480" cy="12276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7200" y="4705560"/>
                <a:ext cx="40320" cy="13320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4920" y="4696560"/>
                <a:ext cx="59400" cy="14688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3320" y="45802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1960" y="4605120"/>
                <a:ext cx="17280" cy="108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0880" y="4603680"/>
                <a:ext cx="18360" cy="1404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1240" y="460332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6840" y="4603680"/>
                <a:ext cx="8640" cy="180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9" name="" descr=""/>
          <p:cNvPicPr/>
          <p:nvPr/>
        </p:nvPicPr>
        <p:blipFill>
          <a:blip r:embed="rId15"/>
          <a:stretch/>
        </p:blipFill>
        <p:spPr>
          <a:xfrm>
            <a:off x="304920" y="3733920"/>
            <a:ext cx="290520" cy="3985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1143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38280" y="1676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22096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743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290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38280" y="39625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38280" y="47242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52578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7913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63244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>
            <a:off x="1676520" y="762120"/>
            <a:ext cx="457200" cy="393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>
            <a:off x="1600200" y="198108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1600200" y="3124080"/>
            <a:ext cx="457200" cy="393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>
            <a:off x="1523880" y="434340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>
            <a:off x="1600200" y="1371600"/>
            <a:ext cx="457200" cy="393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>
            <a:off x="1523880" y="259092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2"/>
          <a:stretch/>
        </p:blipFill>
        <p:spPr>
          <a:xfrm>
            <a:off x="1600200" y="3733920"/>
            <a:ext cx="457200" cy="3934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3"/>
          <a:stretch/>
        </p:blipFill>
        <p:spPr>
          <a:xfrm>
            <a:off x="1523880" y="4952880"/>
            <a:ext cx="50652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4"/>
          <a:stretch/>
        </p:blipFill>
        <p:spPr>
          <a:xfrm>
            <a:off x="1600200" y="5638680"/>
            <a:ext cx="457200" cy="393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5"/>
          <a:stretch/>
        </p:blipFill>
        <p:spPr>
          <a:xfrm>
            <a:off x="1523880" y="6095880"/>
            <a:ext cx="506520" cy="4762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228600" y="0"/>
            <a:ext cx="87631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entences based on the pictur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4:27:05Z</dcterms:created>
  <dc:creator>udsd</dc:creator>
  <dc:description/>
  <dc:language>en-US</dc:language>
  <cp:lastModifiedBy>udsd</cp:lastModifiedBy>
  <dcterms:modified xsi:type="dcterms:W3CDTF">2009-02-18T19:40:39Z</dcterms:modified>
  <cp:revision>4</cp:revision>
  <dc:subject/>
  <dc:title>Slide 1</dc:title>
</cp:coreProperties>
</file>